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0CC-B3D0-4026-9A80-5EA8EB9E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934-4CCF-4B20-BBA4-0744D1AC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F0C-09C0-47C8-BFF1-5D878BCC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185-F609-405D-AF67-B2D43138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8C6-7FC0-4FFF-831D-9F92EE5A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1C9-C505-4D1F-BDA7-E1C3FC9A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48B-9FB3-4310-ADE1-F20B4BA5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7F4-CA04-4E4D-8B74-E53A4A73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C0B-5885-45F7-85A3-3CCDCC9C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77B-3AF2-4CD5-8CD6-C8F6D3DD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AF7-724C-4ECF-992F-670D8D50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857-525C-43F2-AFC2-FF9B88E6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228D-B0BB-405F-BCD5-9B0AEBD94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ff"/>
                </a:solidFill>
                <a:latin typeface="Times New Roman"/>
              </a:rPr>
              <a:t>Principali inquinanti presenti nell’aria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Polveri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: sostanze cancerogene, irritanti, tossiche e allergizz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Ossidi di azoto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(NOx)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 sono gas irri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Ossido di carbonio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(CO) 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impedisce il trasporto dell’ossigeno alle cell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composti organici volatili (C.O.V.)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 cancerogene, irritanti, toss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Ossido di zolfo</a:t>
            </a: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: è un gas irri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ff"/>
                </a:solidFill>
                <a:latin typeface="Times New Roman"/>
              </a:rPr>
              <a:t>Costo del trasporto di 1000 tonnellate di merci per un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1916280"/>
          <a:ext cx="8064360" cy="4333680"/>
        </p:xfrm>
        <a:graphic>
          <a:graphicData uri="http://schemas.openxmlformats.org/drawingml/2006/table">
            <a:tbl>
              <a:tblPr/>
              <a:tblGrid>
                <a:gridCol w="1712880"/>
                <a:gridCol w="3176640"/>
                <a:gridCol w="3174840"/>
              </a:tblGrid>
              <a:tr h="206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quinamento atmosferico e incid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Trasport and enviroment USA 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q. atmosferico e acustico, incidenti, ore pe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AdT 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am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ren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ff"/>
                </a:solidFill>
                <a:latin typeface="Times New Roman"/>
              </a:rPr>
              <a:t>% di merci trasportate su ferrov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700280"/>
          <a:ext cx="7772400" cy="4140000"/>
        </p:xfrm>
        <a:graphic>
          <a:graphicData uri="http://schemas.openxmlformats.org/drawingml/2006/table">
            <a:tbl>
              <a:tblPr/>
              <a:tblGrid>
                <a:gridCol w="2376360"/>
                <a:gridCol w="1368360"/>
                <a:gridCol w="1368360"/>
                <a:gridCol w="1295640"/>
                <a:gridCol w="1363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9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9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9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t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Fra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Germ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pa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gno Un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vizz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vezi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7138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3333ff"/>
                </a:solidFill>
                <a:latin typeface="Times New Roman"/>
              </a:rPr>
              <a:t>Spesa per investimenti in conto capitale in infrastrutture di trasporto tra il 1970 e il 1995 in Italia (totale 165.000 miliardi di lire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2492280"/>
          <a:ext cx="7772400" cy="3827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3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tra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6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Ferrovi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5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or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eroporti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ff"/>
                </a:solidFill>
                <a:latin typeface="Times New Roman"/>
              </a:rPr>
              <a:t>Chi paga i costi dell´au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Gettito fiscale totale del trasporto su gomma nel 2004:  58 miliardi di e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Spesa pubblica per l´intero sistema dei trasporti: 40 miliardi di e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Costi esterni del trasporto su gomma 84 miliardi di e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Deficit 66 miliardi (124 – 58 = 66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623736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Fonti: ACI, MdT, AdT: anno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imes New Roman"/>
              </a:rPr>
              <a:t>In 10 anni il parco autovetture è aumentato del 2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imes New Roman"/>
              </a:rPr>
              <a:t>35 milioni di autovetture, 4 milioni di autocarri, 9 milioni di motocicli. Un veicolo ogni 1,2 abitant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imes New Roman"/>
              </a:rPr>
              <a:t>L’Italia è al 2° posto per auto/abitante e al 1° posto per auto/Km</a:t>
            </a:r>
            <a:r>
              <a:rPr b="1" lang="it-IT" sz="2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imes New Roman"/>
              </a:rPr>
              <a:t>A Napoli 5.241 auto/km</a:t>
            </a:r>
            <a:r>
              <a:rPr b="1" lang="it-IT" sz="2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4360" y="4292640"/>
          <a:ext cx="7697160" cy="1882800"/>
        </p:xfrm>
        <a:graphic>
          <a:graphicData uri="http://schemas.openxmlformats.org/drawingml/2006/table">
            <a:tbl>
              <a:tblPr/>
              <a:tblGrid>
                <a:gridCol w="3848400"/>
                <a:gridCol w="384876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Lond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.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Mona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79280" y="3141720"/>
            <a:ext cx="896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Times New Roman"/>
              </a:rPr>
              <a:t>Offerta di trasporto pubblico                                              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(milioni di postiKm per anno/km</a:t>
            </a:r>
            <a:r>
              <a:rPr b="1" lang="it-IT" sz="2400" spc="-1" strike="noStrike" baseline="30000">
                <a:solidFill>
                  <a:srgbClr val="3333ff"/>
                </a:solidFill>
                <a:latin typeface="Times New Roman"/>
              </a:rPr>
              <a:t>2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cc"/>
                </a:solidFill>
                <a:latin typeface="Times New Roman"/>
              </a:rPr>
              <a:t>1) rinnovo parco auto e moto da convenzionale ad euro 1 e 2 </a:t>
            </a:r>
            <a:br>
              <a:rPr sz="2300"/>
            </a:br>
            <a:r>
              <a:rPr b="1" lang="it-IT" sz="2300" spc="-1" strike="noStrike">
                <a:solidFill>
                  <a:srgbClr val="003300"/>
                </a:solidFill>
                <a:latin typeface="Times New Roman"/>
              </a:rPr>
              <a:t>2) rinnovo del parco veicoli pubblici da convenzionale ad euro 1 e 2</a:t>
            </a:r>
            <a:br>
              <a:rPr sz="2300"/>
            </a:br>
            <a:r>
              <a:rPr b="1" lang="it-IT" sz="2300" spc="-1" strike="noStrike">
                <a:solidFill>
                  <a:srgbClr val="cc3300"/>
                </a:solidFill>
                <a:latin typeface="Times New Roman"/>
              </a:rPr>
              <a:t>3) aumento dei fattori di occupazione: auto da 1,2 a 1,7; moto da 1 a 1.2, autobus e tram da 15 a 18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(APAT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2852640"/>
          <a:ext cx="8640720" cy="3816360"/>
        </p:xfrm>
        <a:graphic>
          <a:graphicData uri="http://schemas.openxmlformats.org/drawingml/2006/table">
            <a:tbl>
              <a:tblPr/>
              <a:tblGrid>
                <a:gridCol w="1551240"/>
                <a:gridCol w="812520"/>
                <a:gridCol w="959040"/>
                <a:gridCol w="960480"/>
                <a:gridCol w="812880"/>
                <a:gridCol w="960120"/>
                <a:gridCol w="812880"/>
                <a:gridCol w="885960"/>
                <a:gridCol w="88560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1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</a:t>
                      </a:r>
                      <a:r>
                        <a:rPr b="1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1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it-IT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cenari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buClr>
                          <a:srgbClr val="3333cc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buClr>
                          <a:srgbClr val="3333cc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Scenario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Scenario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M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324000" y="189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Times New Roman"/>
              </a:rPr>
              <a:t>Valori minimi e massimi di riduzione delle emissioni per tre scenari: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ff"/>
                </a:solidFill>
                <a:latin typeface="Times New Roman"/>
              </a:rPr>
              <a:t>Che 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contrastare ogni forma di finanziamento al trasporto priv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smettere di costruire nuove autostrade, ponti, trafori, tangenziali, svincoli, parcheg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promuovere reti di trasporti pubblici comodi ed efficienti a livello comunale, provinciale, regionale e na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attuare una politica urbanistica che contrasti la “cittá spuzzata”, il pendolarismo, la mobilitá ecces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Times New Roman"/>
              </a:rPr>
              <a:t>favorire la pedonalitá e la ciclabilit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ff"/>
                </a:solidFill>
                <a:latin typeface="Times New Roman"/>
              </a:rPr>
              <a:t>Cosa possiamo fare no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diffondere queste conoscenze</a:t>
            </a:r>
            <a:r>
              <a:rPr b="0" lang="it-IT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sostenere le organizzazioni che si battono per una mobilità sostenibi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non farsi prendere dalla “automobilite”</a:t>
            </a:r>
            <a:r>
              <a:rPr b="0" lang="it-IT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e curarsi si è affetti da tale “grave patologia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fare pressione su Comune, Regione, Provincia per una mobilità sostenib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</a:rPr>
              <a:t>opporsi ai progetti di costruzione di nuove strade, tangenziali, tunnel, parchegg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pretendere una politica che incentivi fortemente il trasporto collettivo e il trasporto merci su ferro e su acqua</a:t>
            </a:r>
            <a:r>
              <a:rPr b="0" lang="it-IT" sz="26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3333ff"/>
                </a:solidFill>
                <a:latin typeface="Times New Roman"/>
              </a:rPr>
              <a:t>Graz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Pio Russo Kra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cc"/>
                </a:solidFill>
                <a:latin typeface="Times New Roman"/>
              </a:rPr>
              <a:t>cedras@aslna1.napoli.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Times New Roman"/>
              </a:rPr>
              <a:t>Prevalenza dell´asma e della rinite allergica in adulti abitanti a Verona e nelle campagne vicino Ve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19920" y="6399360"/>
            <a:ext cx="549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Arial"/>
              </a:rPr>
              <a:t>C </a:t>
            </a:r>
            <a:r>
              <a:rPr b="1" lang="it-IT" sz="1600" spc="-1" strike="noStrike">
                <a:solidFill>
                  <a:srgbClr val="3333ff"/>
                </a:solidFill>
                <a:latin typeface="Arial"/>
              </a:rPr>
              <a:t>Campello, M Ferrari, A Poli et al. </a:t>
            </a:r>
            <a:r>
              <a:rPr b="1" i="1" lang="it-IT" sz="1600" spc="-1" strike="noStrike">
                <a:solidFill>
                  <a:srgbClr val="3333ff"/>
                </a:solidFill>
                <a:latin typeface="Arial"/>
              </a:rPr>
              <a:t>Arch Chest Dis</a:t>
            </a:r>
            <a:r>
              <a:rPr b="1" lang="it-IT" sz="1600" spc="-1" strike="noStrike">
                <a:solidFill>
                  <a:srgbClr val="3333ff"/>
                </a:solidFill>
                <a:latin typeface="Arial"/>
              </a:rPr>
              <a:t>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332000" y="1341360"/>
          <a:ext cx="759600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7596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64072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ff"/>
                </a:solidFill>
                <a:latin typeface="Times New Roman"/>
              </a:rPr>
              <a:t>Stima del numero di morti e malattie attribuibili all´effetto a breve termine dell’inquinamento atmosferico a Napoli </a:t>
            </a:r>
            <a:br>
              <a:rPr sz="3200"/>
            </a:br>
            <a:r>
              <a:rPr b="0" lang="it-IT" sz="2400" spc="-1" strike="noStrike">
                <a:solidFill>
                  <a:srgbClr val="3333ff"/>
                </a:solidFill>
                <a:latin typeface="Times New Roman"/>
              </a:rPr>
              <a:t>(MISA2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N° di morti per effetti acuti     444  </a:t>
            </a:r>
            <a:r>
              <a:rPr b="1" lang="it-IT" sz="2200" spc="-1" strike="noStrike">
                <a:solidFill>
                  <a:srgbClr val="0000cc"/>
                </a:solidFill>
                <a:latin typeface="Times New Roman"/>
              </a:rPr>
              <a:t>(162-69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N° di ricoveri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        627  </a:t>
            </a:r>
            <a:r>
              <a:rPr b="1" lang="it-IT" sz="2200" spc="-1" strike="noStrike">
                <a:solidFill>
                  <a:srgbClr val="0000cc"/>
                </a:solidFill>
                <a:latin typeface="Times New Roman"/>
              </a:rPr>
              <a:t>(459-84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N° di bronchiti acute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     6.235  </a:t>
            </a:r>
            <a:r>
              <a:rPr b="1" lang="it-IT" sz="2200" spc="-1" strike="noStrike">
                <a:solidFill>
                  <a:srgbClr val="0000cc"/>
                </a:solidFill>
                <a:latin typeface="Times New Roman"/>
              </a:rPr>
              <a:t>(4081-707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N° di visite al P.S. per asm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nei bambini (0-14 anni)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it-IT" sz="3000" spc="-1" strike="noStrike">
                <a:solidFill>
                  <a:srgbClr val="0000cc"/>
                </a:solidFill>
                <a:latin typeface="Times New Roman"/>
              </a:rPr>
              <a:t>     6.055  </a:t>
            </a:r>
            <a:r>
              <a:rPr b="1" lang="it-IT" sz="2200" spc="-1" strike="noStrike">
                <a:solidFill>
                  <a:srgbClr val="0000cc"/>
                </a:solidFill>
                <a:latin typeface="Times New Roman"/>
              </a:rPr>
              <a:t>(5646-645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47640" y="6506640"/>
            <a:ext cx="70549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ff"/>
                </a:solidFill>
                <a:latin typeface="Arial"/>
              </a:rPr>
              <a:t>Kunzli et al. </a:t>
            </a:r>
            <a:r>
              <a:rPr b="1" i="1" lang="it-IT" sz="1600" spc="-1" strike="noStrike">
                <a:solidFill>
                  <a:srgbClr val="3333ff"/>
                </a:solidFill>
                <a:latin typeface="Arial"/>
              </a:rPr>
              <a:t>The Lancet</a:t>
            </a:r>
            <a:r>
              <a:rPr b="1" lang="it-IT" sz="1600" spc="-1" strike="noStrike">
                <a:solidFill>
                  <a:srgbClr val="3333ff"/>
                </a:solidFill>
                <a:latin typeface="Arial"/>
              </a:rPr>
              <a:t>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907920"/>
          <a:ext cx="8713800" cy="5656320"/>
        </p:xfrm>
        <a:graphic>
          <a:graphicData uri="http://schemas.openxmlformats.org/drawingml/2006/table">
            <a:tbl>
              <a:tblPr/>
              <a:tblGrid>
                <a:gridCol w="2892240"/>
                <a:gridCol w="1200240"/>
                <a:gridCol w="1668600"/>
                <a:gridCol w="1512720"/>
                <a:gridCol w="144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ischio rel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casi per 10mcg/m3 PM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casi per 40mcg/m3 PM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casi per Napoli (45 mcg/m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ortalità totale (&gt;35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icoveri m.respirato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icoveri m.cardi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cidenza bronchite cronica (adulti&gt;25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pisodi bronch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(bambini&lt;15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8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ttacchi asm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(adulti &gt;25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5.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8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ttacchi asma (bambini&lt;15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0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79280" y="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tima degli effetti sanitari del PM10 su 1 milione di persone e applicazione di tali stime alla situazione napole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% di morti per tumore attribuibili all’inquinamento atmosferico 6% (1 – 15%)</a:t>
            </a:r>
            <a:br>
              <a:rPr sz="3200"/>
            </a:b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cioè 6.000-8.000 all’anno in Italia</a:t>
            </a:r>
            <a:br>
              <a:rPr sz="3200"/>
            </a:br>
            <a:br>
              <a:rPr sz="2400"/>
            </a:b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% di morti per broncopatie croniche 20%</a:t>
            </a:r>
            <a:br>
              <a:rPr sz="3200"/>
            </a:b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Cioè 7.000 all’anno in Italia</a:t>
            </a:r>
            <a:br>
              <a:rPr sz="3200"/>
            </a:br>
            <a:br>
              <a:rPr sz="2400"/>
            </a:br>
            <a:r>
              <a:rPr b="1" lang="it-IT" sz="3200" spc="-1" strike="noStrike">
                <a:solidFill>
                  <a:srgbClr val="0000cc"/>
                </a:solidFill>
                <a:latin typeface="Times New Roman"/>
              </a:rPr>
              <a:t>Stima delle morti totali da inquinamento atmosferico in Italia: 30.000-40.000 all’a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60280"/>
            <a:ext cx="770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33ff"/>
                </a:solidFill>
                <a:latin typeface="Times New Roman"/>
              </a:rPr>
              <a:t>Danni non acuti dovuti all’inquinamento atmosferic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ff"/>
                </a:solidFill>
                <a:latin typeface="Times New Roman"/>
              </a:rPr>
              <a:t>Principali fonti di emissione (%)     </a:t>
            </a:r>
            <a:r>
              <a:rPr b="1" lang="it-IT" sz="2000" spc="-1" strike="noStrike">
                <a:solidFill>
                  <a:srgbClr val="3333ff"/>
                </a:solidFill>
                <a:latin typeface="Times New Roman"/>
              </a:rPr>
              <a:t>fonte AN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1557360"/>
          <a:ext cx="8135640" cy="4937040"/>
        </p:xfrm>
        <a:graphic>
          <a:graphicData uri="http://schemas.openxmlformats.org/drawingml/2006/table">
            <a:tbl>
              <a:tblPr/>
              <a:tblGrid>
                <a:gridCol w="2232000"/>
                <a:gridCol w="1137960"/>
                <a:gridCol w="954360"/>
                <a:gridCol w="879480"/>
                <a:gridCol w="806400"/>
                <a:gridCol w="963720"/>
                <a:gridCol w="11617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font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M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O</a:t>
                      </a:r>
                      <a:r>
                        <a:rPr b="1" lang="de-DE" sz="26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O</a:t>
                      </a:r>
                      <a:r>
                        <a:rPr b="1" lang="de-DE" sz="26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de-DE" sz="26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N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rasport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ltri trasport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entral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dustri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iscaldamen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ff"/>
                </a:solidFill>
                <a:latin typeface="Times New Roman"/>
              </a:rPr>
              <a:t>Inquinanti emessi per trasportare un passeggero per 1 Km in Italia (1,2 auto, 15 autobus, 1 ciclomotore) (fonte: </a:t>
            </a:r>
            <a:r>
              <a:rPr b="1" lang="it-IT" sz="2400" spc="-1" strike="noStrike">
                <a:solidFill>
                  <a:srgbClr val="3333ff"/>
                </a:solidFill>
                <a:latin typeface="Times New Roman"/>
              </a:rPr>
              <a:t>APAT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2276640"/>
          <a:ext cx="8569080" cy="4140000"/>
        </p:xfrm>
        <a:graphic>
          <a:graphicData uri="http://schemas.openxmlformats.org/drawingml/2006/table">
            <a:tbl>
              <a:tblPr/>
              <a:tblGrid>
                <a:gridCol w="3600360"/>
                <a:gridCol w="1152360"/>
                <a:gridCol w="1150920"/>
                <a:gridCol w="1224000"/>
                <a:gridCol w="1441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M</a:t>
                      </a:r>
                      <a:r>
                        <a:rPr b="1" lang="it-IT" sz="28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uto non catali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uto euro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Bus non catali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Bus euro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iclomot. non catal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iclomot. euro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Metrò </a:t>
                      </a:r>
                      <a:r>
                        <a:rPr b="1" lang="it-IT" sz="2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T.E. 198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ff"/>
                </a:solidFill>
                <a:latin typeface="Times New Roman"/>
              </a:rPr>
              <a:t>Consumo d'energia per trasportare una tonnellata per un Km (gep/t/km)</a:t>
            </a:r>
            <a:r>
              <a:rPr b="1" lang="it-IT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it-IT" sz="2400" spc="-1" strike="noStrike">
                <a:solidFill>
                  <a:srgbClr val="3333ff"/>
                </a:solidFill>
                <a:latin typeface="Times New Roman"/>
              </a:rPr>
              <a:t>(Trasport and enviroment 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2565360"/>
          <a:ext cx="7772400" cy="1727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am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5-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Ferrov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a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d4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ff"/>
                </a:solidFill>
                <a:latin typeface="Times New Roman"/>
              </a:rPr>
              <a:t>Stima dei costi esterni in euro del trasporto di 1000 passeggeri per un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0920" y="1557360"/>
          <a:ext cx="8640720" cy="3230640"/>
        </p:xfrm>
        <a:graphic>
          <a:graphicData uri="http://schemas.openxmlformats.org/drawingml/2006/table">
            <a:tbl>
              <a:tblPr/>
              <a:tblGrid>
                <a:gridCol w="1728720"/>
                <a:gridCol w="3236760"/>
                <a:gridCol w="3675240"/>
              </a:tblGrid>
              <a:tr h="155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quinamento atmosferico e incid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Trasport and enviroment USA 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q. atmosferico e acustico, incidenti, ore pe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AdT Italia 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utomob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er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Tren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755640" y="515772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Stima del costo dell’inquinamento  dovuto al trasporto su gomma: 37.000 milioni di eu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(ExternE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7:01:41Z</dcterms:created>
  <dc:creator>KRAUSS</dc:creator>
  <dc:description/>
  <dc:language>en-US</dc:language>
  <cp:lastModifiedBy>PIO RUSSO KRAUSS</cp:lastModifiedBy>
  <dcterms:modified xsi:type="dcterms:W3CDTF">2009-11-24T17:57:54Z</dcterms:modified>
  <cp:revision>29</cp:revision>
  <dc:subject/>
  <dc:title>Come si fa ad affermare che l’inquinamento è causa di una determinata patologia? </dc:title>
</cp:coreProperties>
</file>